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717-083A-4B5E-B2E6-1CDC74BE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769-963E-4CFE-8653-D0722642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E88-1984-443B-8173-B888C2A7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6A2-5633-4A56-804B-B0DDB348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8890-70AB-4576-BFF7-AF7B2122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0518-0A02-4B85-8F25-ACE98F6C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DEF5-5FF1-4D0C-BA7D-09234958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3DAB-A25F-4153-AE5C-4B51F585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8226-1F9B-497C-A92F-A47D2FCD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5482-ED9B-4CF6-B711-DB854FFB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BE19-27AF-4956-A19C-509C51F4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66F-E68A-4662-97BA-2D135C11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BAA5-5713-463B-AD2C-5F7E052A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5E37-7E65-4FCF-89AF-683AF02D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228D-7801-46AB-986E-37BDF930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08CA-5019-474F-8F31-DF82146E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7595-0985-49BA-880E-12564546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1D6F-9C9E-4BD6-8DE2-6D42B795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B7741-7EE5-4B41-BE2D-97A2AF5D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6891F-8733-4A0D-B15F-1CD44FAB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57FEC-928B-4309-BFD3-2A9CEF58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3C6B0-90F0-4A32-84CC-EA81B5EB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EC1-F3F2-498D-896F-EB01FFCF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B7585-4CF8-4B25-994E-FE657FCB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215D6-286B-4F65-BC85-3C7C1F1D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A937-7CC6-46AF-B5F6-5B600113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6C17F-F9BA-4C5A-8D96-B55EF635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47E1-BC89-47F9-95CC-2CAF2DC4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B9834-0720-482B-9FD5-7888D61B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E16F-9320-46CA-985A-B2C55826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83C67-FD3D-408C-A484-63DB65C9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F5322-3A15-4FCD-A849-91F15140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9889D-21BC-4D50-A058-136CEB07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020-983F-4A79-A92C-B7F4113F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8FBA8-EC1F-43A2-BA4A-D5493B92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A1938-D667-40DB-AF02-4A709223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F1B35-F7E1-41D9-AE14-AB21BB7D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67E9E-0DCB-4E33-BA2E-70FD210E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29ECF-CEE6-44C6-9F64-A916E2CB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EC749-D007-439B-9639-9EAD27A8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99DC2-1AEE-4A45-8343-E413AC8E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3AE93-6BC4-41E0-81DA-2A23791E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4C3F0-A4CF-409C-B70A-911E6C7A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A9E73-8591-46D6-9EAB-ABA7D3C3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BA1-CA3E-4E35-9E88-C6FECC1A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737CC-EDDB-418D-AE48-3616AE99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95738-FA4E-4A17-AA24-33256757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439FD-9B55-4CDF-ADE7-23C82725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C064F-D3EE-4A18-AF18-6C3B4A6A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F5604-3AC1-4C21-A80B-A83AE517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0FDDC-A3A8-43E4-98E2-74D5EBA5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A036-3431-421C-99BC-86A3CFDF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9F6A1-4473-4AC4-AF0C-F97C0641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2846E-36B2-4C78-8B71-3D9A0019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7885F-AC36-48BB-883B-D8A73E54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A95-232F-4B25-A213-3ECD9574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F5377-1F26-46CD-85E0-413A7453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74065-4D4A-4E7F-8094-E675EAF6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DEB69-622C-4831-86FE-914366AD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B8C50-7255-4F2D-9D88-FE651AC2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CA7EA-A072-415E-9FE6-47A9D844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54C99-B57D-4683-BACC-6773FF6D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E2502-E4EB-43D2-BE8C-FB75C3B0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99A49-E828-4D74-B353-DA978C8E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60AD6-5085-4583-83E4-5BC19828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25B4F-ADAC-4522-8706-33B4D4A5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A9F-B442-47A7-A629-B819E3BF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6E498-B8F6-4F85-9E46-5C170B05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9E30D-5A89-4E1A-88AF-6EF40F8F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CA8F7-D52E-4B84-BDA8-3C93AC1E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551-6041-4EE2-91C2-DB7C8A84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85B-8E69-4710-810E-0AFF8FF6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2C27-045A-4CD9-A6B8-3433F7F450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108A-D610-48EB-BE15-0CFE6616F5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5415-5692-4BFE-9966-C54C6D9EE1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307C-3D43-4AD3-B2EB-11E043374B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4728-DEED-41C2-8226-668D0F0123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AFBC-7A6F-4014-A39E-6F8A51BE7E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iddleschoolscience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iddleschoolscience.com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Cooper Black"/>
              </a:rPr>
              <a:t>Challenge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Phys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80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Densit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81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tle 1"/>
          <p:cNvSpPr/>
          <p:nvPr/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609480" y="609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ill it float in water?  Determine if the following shapes will float in water by calculating the density for each item. D = M 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5-Point Star 10"/>
          <p:cNvSpPr/>
          <p:nvPr/>
        </p:nvSpPr>
        <p:spPr>
          <a:xfrm>
            <a:off x="533520" y="2209680"/>
            <a:ext cx="1447560" cy="1447920"/>
          </a:xfrm>
          <a:prstGeom prst="pie">
            <a:avLst/>
          </a:prstGeom>
          <a:solidFill>
            <a:srgbClr val="00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Isosceles Triangle 11"/>
          <p:cNvSpPr/>
          <p:nvPr/>
        </p:nvSpPr>
        <p:spPr>
          <a:xfrm>
            <a:off x="2743200" y="2209680"/>
            <a:ext cx="1447920" cy="1447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lowchart: Magnetic Disk 12"/>
          <p:cNvSpPr/>
          <p:nvPr/>
        </p:nvSpPr>
        <p:spPr>
          <a:xfrm>
            <a:off x="4952880" y="2209680"/>
            <a:ext cx="1524240" cy="1447920"/>
          </a:xfrm>
          <a:prstGeom prst="flowChartMagneticDisk">
            <a:avLst/>
          </a:prstGeom>
          <a:solidFill>
            <a:srgbClr val="ffc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ube 13"/>
          <p:cNvSpPr/>
          <p:nvPr/>
        </p:nvSpPr>
        <p:spPr>
          <a:xfrm>
            <a:off x="7238880" y="2133720"/>
            <a:ext cx="1219320" cy="1523880"/>
          </a:xfrm>
          <a:prstGeom prst="cube">
            <a:avLst>
              <a:gd name="adj" fmla="val 25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380880" y="4343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5"/>
          <p:cNvSpPr/>
          <p:nvPr/>
        </p:nvSpPr>
        <p:spPr>
          <a:xfrm>
            <a:off x="2590920" y="4343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724280" y="4343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7010280" y="43434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9"/>
          <p:cNvSpPr/>
          <p:nvPr/>
        </p:nvSpPr>
        <p:spPr>
          <a:xfrm>
            <a:off x="2514600" y="617220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www.middleschoolscience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tle 1"/>
          <p:cNvSpPr/>
          <p:nvPr/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609480" y="609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ill it float in water?  Determine if the following shapes will float in water by calculating the density for each item. D = M 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5-Point Star 10"/>
          <p:cNvSpPr/>
          <p:nvPr/>
        </p:nvSpPr>
        <p:spPr>
          <a:xfrm>
            <a:off x="533520" y="2209680"/>
            <a:ext cx="1447560" cy="1447920"/>
          </a:xfrm>
          <a:prstGeom prst="pie">
            <a:avLst/>
          </a:prstGeom>
          <a:solidFill>
            <a:srgbClr val="00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Isosceles Triangle 11"/>
          <p:cNvSpPr/>
          <p:nvPr/>
        </p:nvSpPr>
        <p:spPr>
          <a:xfrm>
            <a:off x="2743200" y="2209680"/>
            <a:ext cx="1447920" cy="1447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lowchart: Magnetic Disk 12"/>
          <p:cNvSpPr/>
          <p:nvPr/>
        </p:nvSpPr>
        <p:spPr>
          <a:xfrm>
            <a:off x="4952880" y="2209680"/>
            <a:ext cx="1524240" cy="1447920"/>
          </a:xfrm>
          <a:prstGeom prst="flowChartMagneticDisk">
            <a:avLst/>
          </a:prstGeom>
          <a:solidFill>
            <a:srgbClr val="ffc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ube 13"/>
          <p:cNvSpPr/>
          <p:nvPr/>
        </p:nvSpPr>
        <p:spPr>
          <a:xfrm>
            <a:off x="7238880" y="2133720"/>
            <a:ext cx="1219320" cy="1523880"/>
          </a:xfrm>
          <a:prstGeom prst="cube">
            <a:avLst>
              <a:gd name="adj" fmla="val 25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4"/>
          <p:cNvSpPr/>
          <p:nvPr/>
        </p:nvSpPr>
        <p:spPr>
          <a:xfrm>
            <a:off x="228600" y="4343400"/>
            <a:ext cx="198108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2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0.75 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5"/>
          <p:cNvSpPr/>
          <p:nvPr/>
        </p:nvSpPr>
        <p:spPr>
          <a:xfrm>
            <a:off x="2362320" y="4343400"/>
            <a:ext cx="205740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00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0.0 g/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6"/>
          <p:cNvSpPr/>
          <p:nvPr/>
        </p:nvSpPr>
        <p:spPr>
          <a:xfrm>
            <a:off x="4648320" y="4343400"/>
            <a:ext cx="213336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2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.25 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6934320" y="4343400"/>
            <a:ext cx="205740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2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0.05 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9"/>
          <p:cNvSpPr/>
          <p:nvPr/>
        </p:nvSpPr>
        <p:spPr>
          <a:xfrm>
            <a:off x="2514600" y="640080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www.middleschoolscience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8"/>
          <p:cNvSpPr/>
          <p:nvPr/>
        </p:nvSpPr>
        <p:spPr>
          <a:xfrm>
            <a:off x="914400" y="5943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the density is less than 1.0 g/cm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en it will float. 1 g/mL = 1 g/cm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Rectangle 14" descr=""/>
          <p:cNvPicPr/>
          <p:nvPr/>
        </p:nvPicPr>
        <p:blipFill>
          <a:blip r:embed="rId2"/>
          <a:stretch/>
        </p:blipFill>
        <p:spPr>
          <a:xfrm>
            <a:off x="-55440" y="1773360"/>
            <a:ext cx="2463840" cy="182376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15" descr=""/>
          <p:cNvPicPr/>
          <p:nvPr/>
        </p:nvPicPr>
        <p:blipFill>
          <a:blip r:embed="rId3"/>
          <a:stretch/>
        </p:blipFill>
        <p:spPr>
          <a:xfrm>
            <a:off x="6572160" y="1700280"/>
            <a:ext cx="2468520" cy="181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7-06T14:36:07Z</dcterms:modified>
  <cp:revision>49</cp:revision>
  <dc:subject/>
  <dc:title>Slide 1</dc:title>
</cp:coreProperties>
</file>